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EEC-2046-484A-A84F-F8A0094D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0F9-093D-4911-86FC-07D4225E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18A-031D-49A1-A88E-094561C5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2FA-7E02-4A31-A105-0B0830B7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8414-F894-4F5F-BE4C-9FCE06FC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009C-B566-4569-9FAE-C991C8AE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8A36-C04C-4FB1-A6C1-813D701D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0494-653A-49E0-9A2B-F161E8BB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FF06-B702-47EA-84A5-86BA62F3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7A37-4E57-4E01-8C82-B0A84FC9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73CC-7EA5-4EBC-8445-27B8CA7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E93-1BB1-4FFC-B218-9044AAFD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7C8-4322-41B3-B1FC-C12D5572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87A0-7785-4802-A296-3C1E3E79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B3CF-4688-47F9-B101-92FC5634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E0EF-C892-4B72-BB48-4A0F86A3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F4D5-6067-4E5F-9957-AF7C9DF2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4E5-EA41-40D8-87BA-E5D1D3E2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537-FCE5-4C7D-ACAF-25402D28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9B8-02B1-47A2-9C99-EF8331DA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D28-4959-4CD2-8244-8A8BC812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AF0-4051-475E-8749-3D0A1C3F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291-5E2C-4246-A85D-4C73A5E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ED2-D6AA-441B-9B90-2CB17078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B2AD-996A-4C3A-A1DF-401106050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9C3D-2050-4EFB-89DD-FC1045F049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4format.ru/" TargetMode="External"/><Relationship Id="rId2" Type="http://schemas.openxmlformats.org/officeDocument/2006/relationships/hyperlink" Target="http://moy-bereg.ru/" TargetMode="External"/><Relationship Id="rId3" Type="http://schemas.openxmlformats.org/officeDocument/2006/relationships/hyperlink" Target="http://borodina.mrezha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162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Символика в романе Ф.И. Достоевского «Преступление и наказание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742840" y="37652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Arial"/>
              </a:rPr>
              <a:t>Выполнила: Машкалёва Анаста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Arial"/>
              </a:rPr>
              <a:t>342 группа</a:t>
            </a: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00"/>
                </a:solidFill>
                <a:latin typeface="Times New Roman"/>
              </a:rPr>
              <a:t>2010 год, Сыктыв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00"/>
                </a:solidFill>
                <a:latin typeface="Times New Roman"/>
              </a:rPr>
              <a:t>Как выразить невыразимое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опросы с которыми мы должны познакомиться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Что такое симво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Какие символы вы можете выделить в романе Ф. М. Достоевского </a:t>
            </a:r>
            <a:br>
              <a:rPr sz="3200"/>
            </a:b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« Преступление и наказание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Какую роль данные символы выполняют в рома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00"/>
                </a:solidFill>
                <a:latin typeface="Times New Roman"/>
              </a:rPr>
              <a:t>План проведения проект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1) Знакомство с понятием символ. Общая характеристика символа  в романе. (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2) Символика красного и желтого цвета в романе.( 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3) Символика чисел 4 и 7 в романе. (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4) Символика фамилий в романе. ( 1час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5) Выводы по теме. Работа по группам ( выбор символа и разъяснение его содержа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( 2 час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Данный проект рассчитан на 6  ча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0000"/>
                </a:solidFill>
                <a:latin typeface="Times New Roman"/>
              </a:rPr>
              <a:t>Информационные ресурс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www.a4format.r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moy-bereg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borodina.mrezha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20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